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0279-F817-4C9C-B389-00ED8B2F8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9C1E-517F-4495-9346-7A53AEA2A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C4F6-73F7-4FB5-BE4E-B7F92552D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15EA-ACA8-4AE4-BF0E-E7AEAD445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A6BD-285C-402E-A9AC-510AF00E8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FC88-B5E1-4897-935F-40532A4FB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5C66-42CE-4998-BFA8-0E84CB549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3C28-FC34-4D5D-974F-EB761CC00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A481-D170-4673-879F-8944381AA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AF23-AF67-41BE-A1C7-825E7FF5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EBE7-E55F-42F7-AD3A-2E2FBF0D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05C8-26BA-446B-AA2C-B2F0F7B6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1D8D-6287-453A-B06C-C0ED12508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ermission for this presentation is currently restricted. This presentation can only be opened by using Microsoft Office 2003 or later. You can request the author of the presentation to send a copy that can be read using the Rights Management Add-on for Internet Explor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00:56:25Z</dcterms:created>
  <dc:creator/>
  <dc:description/>
  <dc:language>en-US</dc:language>
  <cp:lastModifiedBy/>
  <dcterms:modified xsi:type="dcterms:W3CDTF">2004-11-02T00:56:25Z</dcterms:modified>
  <cp:revision>81</cp:revision>
  <dc:subject/>
  <dc:title>Permission to this presentation is  currently restricted. This presentation can  be opened by Microsoft Office 11 Beta  or a viewer. For more information,  go to http://office.microsoft.com/viewer.</dc:title>
</cp:coreProperties>
</file>