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DD1-6953-46A4-B5EF-DA8E4047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73E-FD26-48B1-B628-0B9DA9E5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770B-9FFF-4926-8145-99D15A9A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1B5-AB49-4BBC-B9D6-23EA6B8D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4B8-3C32-44B0-B02C-56A37C45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F56-0A10-4641-9C39-4A35DD26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619-ECEC-4F2D-8905-BF87B7D7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ED6A-80D4-4511-B857-0AF1739B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9A6-4AA9-4B3D-9A74-AF9C9DD5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D09-5E58-466B-B92B-9B5D4F2C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7A0-2E1F-4164-A2CC-B74D5321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63D-31F8-40B6-BF33-0CD858F8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B75B-BB94-4070-9D31-3288EABCF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ssion for this presentation is currently restricted. This presentation can only be opened by using Microsoft Office 2003 or later. You can request the author of the presentation to send a copy that can be read using the Rights Management Add-on for Internet Explor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5Z</dcterms:created>
  <dc:creator/>
  <dc:description/>
  <dc:language>en-US</dc:language>
  <cp:lastModifiedBy/>
  <dcterms:modified xsi:type="dcterms:W3CDTF">2004-11-02T00:56:25Z</dcterms:modified>
  <cp:revision>81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