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FF1-FF62-41B3-BA9D-1AAF3767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62A-8EB0-4C06-8F67-044D183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CF3-E06A-4843-BF02-ADBCFC09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DE7-21B9-41AA-8A6B-ABD08C2F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A3C-35C4-4B33-9C1F-78C05463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479-C75A-4318-B0CC-2DB19D79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626-243A-4D26-A87A-5B883972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FF1-B418-470B-BF4F-93F92325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8A4-D2C2-4DC1-878A-F6F36ACF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BCD-8513-4D52-9E3D-0BCC0AD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81B-C83A-4A5E-BE6D-38C0330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F7D-820D-42F8-B7B8-CA198761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FE2B-EC72-486F-875D-11AB44A1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ssion for this presentation is currently restricted. This presentation can only be opened by using Microsoft Office 2003 or later. You can request the author of the presentation to send a copy that can be read using the Rights Management Add-on for Internet Explo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4-11-02T00:56:25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